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B77D-206C-460E-B116-F2BA7CB3709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should take about 1 hr: speaking 1 – 10 mins; grammar – 15 mins; reading – 15 mins; speaking 2 – 20 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40EA-53F9-44AB-87F9-3828F4AFF172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all true except 2 (voting is not mandatory in Germa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299A-5904-4C2F-B4B0-44200CF11A6C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ck understanding of structures with concept questions and drill where necessary. Then allow learners to discuss and note down errors for post task cor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17EA-0FD1-462E-835B-D60AE134E987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print out the article, or get learners to read it online. If reading a paper copy, learners could underline or highlight all the points they want to reme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C7B3-7329-4915-97B0-C1525FE809AD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leave the compulsory/optional language on the board/wall for learners to refer to. If time, re-pair learners so they can repeat the argument with different partners. Monitor for errors and note them down for post task error cor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t learners tell each other at the end which arguments they really do agree with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7233-013F-4ECB-8702-AB0DDA209871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DC47-BD95-447C-A06F-818DF937E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962F-3721-4B41-B05F-D13BF3BC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4D6B-1A52-405A-80BC-6E8388017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9D09-D8CF-4821-B7ED-BC7B2E842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B3DC-8671-4C87-AB88-F657C4F6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BFB4-B97B-4910-9D00-3BD993A8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568D-0E33-4821-9513-0BF4B2AC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037F-1759-45F0-B706-3FC1EF1C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008F-1074-4C62-9FA0-1801D5C2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B572-FA06-4990-B462-00BCA41F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B856-EC3F-4B87-AFBC-078F9A15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042C-AEF7-4AE3-8A78-D6636229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CEF4-8564-4D5B-B4AF-248DC474BABD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Is_it_a_good_idea_to_say_that_everyone_must_vote%3F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newint.org/sections/argument/2015/03/18/uri-220.jp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6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0" spc="-1" strike="noStrike">
                <a:solidFill>
                  <a:srgbClr val="ffffff"/>
                </a:solidFill>
                <a:latin typeface="Calibri"/>
              </a:rPr>
              <a:t>Voting</a:t>
            </a:r>
            <a:endParaRPr b="0" lang="en-US" sz="1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24000" y="4437000"/>
            <a:ext cx="48956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Calibri"/>
              </a:rPr>
              <a:t>NEW INTERNATIONALIST  EASIER ENGLISH INTERMEDIATE READY LESS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916360" y="476280"/>
            <a:ext cx="6016680" cy="151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34920" y="3933720"/>
            <a:ext cx="379584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This lesson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alibri"/>
              </a:rPr>
              <a:t>Grammar – </a:t>
            </a:r>
            <a:r>
              <a:rPr b="1" lang="en-GB" sz="4400" spc="-1" strike="noStrike">
                <a:solidFill>
                  <a:srgbClr val="92d050"/>
                </a:solidFill>
                <a:latin typeface="Calibri"/>
              </a:rPr>
              <a:t>how to say things are optional and compulsory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alibri"/>
              </a:rPr>
              <a:t>Speaking – </a:t>
            </a:r>
            <a:r>
              <a:rPr b="1" lang="en-GB" sz="4400" spc="-1" strike="noStrike">
                <a:solidFill>
                  <a:srgbClr val="ffc000"/>
                </a:solidFill>
                <a:latin typeface="Calibri"/>
              </a:rPr>
              <a:t>about voting in different countries, and if voting should be compulsory or n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alibri"/>
              </a:rPr>
              <a:t>Reading – </a:t>
            </a:r>
            <a:r>
              <a:rPr b="1" lang="en-GB" sz="4400" spc="-1" strike="noStrike">
                <a:solidFill>
                  <a:srgbClr val="ffff00"/>
                </a:solidFill>
                <a:latin typeface="Calibri"/>
              </a:rPr>
              <a:t>an argu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True or false? - general elections?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920" y="112500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In the UK, voting is optional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Everyone has to vote in Germany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only vote if you want to in Franc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Voting is compulsory in Brazil if you’re between 18 and 70, but you can vote if you like if you’re 16, 17 or over 70 (if you are literate)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are fined if you don’t vote in some countrie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must vote in Australia because it’s mandatory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don’t have a choice whether to vote or not in Argentina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What do you notice about the underlined language?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In the UK, voting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is optional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Everyone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has to 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vote in Germany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only vote if you want to 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in Franc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Voting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is compulsory 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in Brazil if you’re between 18 and 70, but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you can vote if you like 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if you’re 16, 17 or over 70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are fined if you don’t 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vote in some countrie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must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 vote in Australia because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it’s mandatory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don’t have a choice whether to vote or not 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in Argentina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don’t have to 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vote in Spain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Discuss your country and other countries – which do you think is best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0560" y="1600200"/>
            <a:ext cx="42447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Voting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is compuls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You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have to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vo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Everyone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has to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vo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You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are fined if you don’t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vo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You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must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 vo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Voting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is mandat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You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don’t have a choice whether to vote or no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Voting </a:t>
            </a:r>
            <a:r>
              <a:rPr b="1" lang="en-GB" sz="3200" spc="-1" strike="noStrike" u="sng">
                <a:solidFill>
                  <a:srgbClr val="00b050"/>
                </a:solidFill>
                <a:uFillTx/>
                <a:latin typeface="Calibri"/>
              </a:rPr>
              <a:t>is option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You </a:t>
            </a:r>
            <a:r>
              <a:rPr b="1" lang="en-GB" sz="3200" spc="-1" strike="noStrike" u="sng">
                <a:solidFill>
                  <a:srgbClr val="00b050"/>
                </a:solidFill>
                <a:uFillTx/>
                <a:latin typeface="Calibri"/>
              </a:rPr>
              <a:t>only vote if you want t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You </a:t>
            </a:r>
            <a:r>
              <a:rPr b="1" lang="en-GB" sz="3200" spc="-1" strike="noStrike" u="sng">
                <a:solidFill>
                  <a:srgbClr val="00b050"/>
                </a:solidFill>
                <a:uFillTx/>
                <a:latin typeface="Calibri"/>
              </a:rPr>
              <a:t>can vote if you lik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You </a:t>
            </a:r>
            <a:r>
              <a:rPr b="1" lang="en-GB" sz="3200" spc="-1" strike="noStrike" u="sng">
                <a:solidFill>
                  <a:srgbClr val="00b050"/>
                </a:solidFill>
                <a:uFillTx/>
                <a:latin typeface="Calibri"/>
              </a:rPr>
              <a:t>don’t have to vo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210440" cy="48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Read this article: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Calibri"/>
              </a:rPr>
              <a:t>“Is it a good idea to make everyone vote?”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Group </a:t>
            </a:r>
            <a:r>
              <a:rPr b="1" lang="en-GB" sz="44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 – find all the </a:t>
            </a:r>
            <a:r>
              <a:rPr b="1" lang="en-GB" sz="4400" spc="-1" strike="noStrike">
                <a:solidFill>
                  <a:srgbClr val="ff0000"/>
                </a:solidFill>
                <a:latin typeface="Calibri"/>
              </a:rPr>
              <a:t>YES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arguments                       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Group </a:t>
            </a:r>
            <a:r>
              <a:rPr b="0" lang="en-GB" sz="4400" spc="-1" strike="noStrike">
                <a:solidFill>
                  <a:srgbClr val="00b0f0"/>
                </a:solidFill>
                <a:latin typeface="Calibri"/>
              </a:rPr>
              <a:t>B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 – find all the </a:t>
            </a:r>
            <a:r>
              <a:rPr b="1" lang="en-GB" sz="4400" spc="-1" strike="noStrike">
                <a:solidFill>
                  <a:srgbClr val="00b0f0"/>
                </a:solidFill>
                <a:latin typeface="Calibri"/>
              </a:rPr>
              <a:t>NO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argumen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522900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49100"/>
                </a:solidFill>
                <a:uFillTx/>
                <a:latin typeface="Calibri"/>
                <a:hlinkClick r:id="rId1"/>
              </a:rPr>
              <a:t>http://eewiki.newint.org/index.php/Is_it_a_good_idea_to_say_that_everyone_must_vote%3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7308720" y="549360"/>
            <a:ext cx="1636920" cy="2232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3"/>
          <a:stretch/>
        </p:blipFill>
        <p:spPr>
          <a:xfrm>
            <a:off x="7277040" y="3141720"/>
            <a:ext cx="16239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alibri"/>
              </a:rPr>
              <a:t>Now divide into pairs – A&amp;B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4000" y="1413000"/>
            <a:ext cx="41716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2d050"/>
                </a:solidFill>
                <a:latin typeface="Calibri"/>
              </a:rPr>
              <a:t>A –     you think voting should be compulsory – try to persuade B with all the reasons you found in the tex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413000"/>
            <a:ext cx="41716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000"/>
                </a:solidFill>
                <a:latin typeface="Calibri"/>
              </a:rPr>
              <a:t>B – you think voting should be optional – try to persuade A with all the arguments you found in the tex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alibri"/>
              </a:rPr>
              <a:t>Homework: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107720"/>
            <a:ext cx="822960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Choice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alibri"/>
              </a:rPr>
              <a:t>Reading</a:t>
            </a: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: read the original argument: </a:t>
            </a:r>
            <a:r>
              <a:rPr b="0" lang="en-GB" sz="4000" spc="-1" strike="noStrike" u="sng">
                <a:solidFill>
                  <a:srgbClr val="f49100"/>
                </a:solidFill>
                <a:uFillTx/>
                <a:latin typeface="Calibri"/>
                <a:hlinkClick r:id="rId1"/>
              </a:rPr>
              <a:t>http://www.newint.org/sections/argument/2015/03/18/uri-220.jpg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or (and?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alibri"/>
              </a:rPr>
              <a:t>Writing</a:t>
            </a: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: write an article for a magazine about what you really think: “Should voting be compulsory?”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6227640" y="115920"/>
            <a:ext cx="271332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3T15:10:39Z</dcterms:created>
  <dc:creator>Linda Ruas</dc:creator>
  <dc:description/>
  <dc:language>en-US</dc:language>
  <cp:lastModifiedBy>Linda Ruas</cp:lastModifiedBy>
  <dcterms:modified xsi:type="dcterms:W3CDTF">2015-04-23T16:09:06Z</dcterms:modified>
  <cp:revision>7</cp:revision>
  <dc:subject/>
  <dc:title>Voting</dc:title>
</cp:coreProperties>
</file>